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F5F6-77E8-448C-8745-05F1AB062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86C3-0B18-4E6D-A0E8-20D4EAE93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0F27-091A-4C0D-9017-994A67B17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54ED-8F15-4649-B4D2-01A2BE0EC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7AB9-E206-48E5-B02B-7679808811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9468-1640-4757-9C99-632690547E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CC82-1982-4590-9AEB-393C2C9D71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2AC6-DF67-4C20-96C9-0D55C9A1B1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3C39-BDEC-4CB8-BC8D-B491C74BF6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AF31-650A-4940-8D59-BCF9C83E7E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4CD2-3CF9-469C-A33C-CCE983AACD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0BA9-B872-4B83-BB10-BC206FFB5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6892-2682-4730-82C7-2CD6F8563F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6DB8-0171-4A39-8B30-E9256DD749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407A-D07B-47C9-99E9-434067B39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7F88-99DE-40BB-B1A8-FAA92C1547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F50F-AED9-4816-B18E-945DDC429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ECED-48F3-4951-97DE-0F5CF67F1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422C-C416-439D-AC60-7E66ECE92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8586-180A-4033-86DC-18B77D420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883C-8AF8-40DA-B8F6-8E5D982D8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80CF-9BE5-4494-A561-75FB5DAA2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5097-A42A-462A-9B33-C7F672DAC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0B81-9576-420F-A1B1-87A4D69EC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C23-9A9E-4D02-90E1-8553B4986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E162-CF7E-4BBA-B090-27F83122F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4 – Preklapanje operatora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ojam preklapanje oper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orske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očni efekti i ve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++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i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w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i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U/I tok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&gt;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i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&lt;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icijalizacija i dodj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Konverzije tip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9097-19AD-43A3-A0DC-253B36794D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ni operator ima samo jedan operand, pa se može realizova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metoda bez argumenata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globalna funkcija sa jednim argumentom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ni operator ima dva argumenta, pa se može realizo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metoda  sa jednim argumentom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des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globalna funkcija sa dva argumenta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levi, X xdes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BDF4-A102-4605-8F10-89A606C1DF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operator-(); //unarni min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Complex ::operator-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mplex( -re, -im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c1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1 = -c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84720" y="5638680"/>
            <a:ext cx="305928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D361-8312-4C2F-A548-209F6068D8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Sporedni efekti i vez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čni efekti koji postoje kod operatora za primitivne tipove ne podrazu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ju se z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klopljene oper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čni efekti postoje ko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ator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–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refiksnih i postfiksnih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h operatora do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 koje postoje između operatora za primitivne tipove ne podrazu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ju se za preklopljene oper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ko je definis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+=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 znači automatsk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=a+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 je potreban, operat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ora posebno da se preklo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9856-7042-4F80-9E33-8751AE4CEA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Sporedni efekti i vez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oru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klopljeni operatori treba da imaju očekivano značenje (zbog čitljivost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ko su definisan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 je d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+=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a isti efekat kao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+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atori do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 treba da 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jaju stanje 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g oper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a se definišu operatori za klasu, treba težiti da njihov skup bude komple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ko su definisan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reba definisat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finis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eba definisat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!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EEF6-E32A-467B-B0E7-6ADD123270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plikovaniji je postoji i prefiksna i postfiksna varija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klapanje prefiks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g opera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vrši se pu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ob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s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funkcija članic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globalna funkcij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no važi i z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klap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fiksnog opera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vrši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funkcija članic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globalna funkcij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, 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se drugi stvarni argument ne navede bić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može se navesti kada se funkcija poziva kao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že se navesti kada se funkcija poziva direktn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.operator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no važi i z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2E56-D540-4F92-BC25-1B4BEE2B1D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+(); //prefik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+(int); //postfik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 ::operator++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rvo se uvecaju re i i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a se kreira lokalni ob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 ++re, ++i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 ::operator++(int 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rvo se kreira lokalni objek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a uvecaju re i 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 re++, im++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26EF-50B3-4E23-BAB2-F33C236481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lex c1(1.0,2.0), c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2 = c1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2="; 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2 = ++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2="; 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5170320"/>
            <a:ext cx="262728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1839-F32E-4CC3-B240-7AB83EC4A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govara mu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()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a proizvoljan broj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argument 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f(a1,...,aN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f.operator()(a1,...,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zultat je lvrijednost ako i samo ako funkcija vraća referenc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 važi za sve operatorske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ermin lvrijednost označava izraz koji se odnosi na neki objekat ili funkcij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jčeće, u pitanju je izraz koji se može naći sa lijeve strane znaka jedankost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4699-222F-4BC7-A08A-A5D8D179DD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Matri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** ma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(int r, int c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~Matrix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&amp; operator()(int i, int j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::Matrix(int r, int c) :r(r), c(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 = new int*[r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r; i++) {mat[i] = new int[c]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::~Matrix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r; i++) {delete new int[c]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lete ma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int&amp; Matrix::operator()(int i, int j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mat[i][j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4F96-ED6F-450C-9BC3-EFF68E290A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atrix m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(0,0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//lvrijednost, moze se naci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//lijeve strane znaka jednak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ut &lt;&lt; m(0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8DF5-DF4F-451C-AA84-DEBD543F01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za preklapanje oper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operatorskih funk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finisanje operator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e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finisanje operatora dodjele i razlike u odnosu na inicijaliza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e ulaz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laznih tokova i operator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verzije tipo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C149-BCDB-4F60-9826-D172C9AD28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reklapanje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[]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govara mu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[]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no jedan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n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i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niz.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jčešća upotre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d objekata koji predstavljaju neke kole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7DD0-E6E5-4B78-941C-34C15848C9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reklapanje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[]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u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::Array(int num) : num(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a = new int[num]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::~Array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delete a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a[i]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a[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25C4-4A79-4D52-B9BF-A1A04DEE2A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&g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narni operator kojem odgovara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bez arg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o-&gt;clan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(o.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-&gt;()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nd))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-&gt;c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jčešća upotre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stup članovima preko pametnih pokazivač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roji pristu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4EEF-0073-4634-95C3-1D50F5123E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&g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public: int dat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* x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(X* xPtr) : xPtr(xPtr), num(0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X* operator-&gt;(){num++; return xPtr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Num(){return num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y(&amp;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&gt;data = 5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//(poziva se y-&gt;operator-&gt;)-&gt;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data="&lt;&lt; x.data &lt;&lt; ",num=" &lt;&lt; y.getN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27640" y="3860640"/>
            <a:ext cx="291636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CB13-4B61-4F1F-9870-B21A031B7D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efinisanjem operator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vrši se kontrola nad alokacijom memor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male objekte može se vršiti precizno alokacija i optimizovati taj postup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e funkcij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uvijek stati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su pozvane objekat još uvijek ne posto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nutar tijela nije potrebno pozivati konstruktor, tj. destruk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ni su implicitno pozva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ba da vrati pokazivač na alocirani pro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C810-0C27-4BCD-BDA2-3106CC9746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* operator new (size_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rgumen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z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cjelobrojni i prestavlja broj bajta koje treba alocira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raća generički pokazivač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oid*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tj. pokazivač na zauzetu memoriju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efiniše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operator delete (void*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a jedan argumen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tr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ji je pokazivač na memoriju koju treba oslobodi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9D4D-FB01-4415-A749-AA29AEA4D8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atic int num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* operator new (size_t sz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 operator delete (void* ptr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X::num =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* X::operator new(size_t sz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num == 10) {cout &lt;&lt; "max 10"&lt;&lt;endl; return 0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um++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::operator new(sz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 X::operator delete (void* pt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ptr != 0){num--; ::operator delete(ptr)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X* x[5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11; i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x[i] = new X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43640" y="5516640"/>
            <a:ext cx="2700360" cy="133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20E8-13C5-4156-B525-E5CF1480EA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narni operator kojem odgovara funkci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erator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ima jedan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o=izraz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o.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zra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ijek je treba definisati kada prosto dodjeljivanje član po član nije logič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ličan problem kod konstruktora kop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599C-53CF-4495-9AFE-C18D4D2EAC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um): num(num){a = new int[num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1(3), a2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1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1[0]=" &lt;&lt; a1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,a2[0]=" &lt;&lt; a2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0000" y="5261040"/>
            <a:ext cx="3564000" cy="15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FB1F-774E-4895-8961-A8AF36B3A8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632720" cy="31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BF78-EBF8-478A-A8A7-6709A88AB2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jam preklapanja operatora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enje operatora ugrađenih u jezik moguće je definisati za korisničke tipove (klas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eklapanje operatora (engl. 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operator overloading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ličan princip kao kod preklapanja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ko je za operator definisano novo značenje onda se kaže da je on prekloplj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većavanje čitljivosti k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imjer: Klasa koja predstavlja kompleksne brojeve i operacija sab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Bilo bi pogodno da možemo koristiti operator + nad objektima ov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E194-4E17-453D-A157-1F4BC312A6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isto ka ranii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&amp; operator=(Array&amp; arr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&amp; Array::operator=(Array&amp; ar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izbjegavanje a=a probl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this == &amp;arr){return *this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um = arr.num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*this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 a1(3), a2(2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1[0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1[0]=" &lt;&lt; a1[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,a2[0]=" &lt;&lt; a2[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19640" y="5243400"/>
            <a:ext cx="3924360" cy="16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7617-33D1-494E-96C4-F5343EF33D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32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6700-681F-4083-A2FB-1A34D4A850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 postoje naredbe ug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đene u jezik koje su namijenjene ulaz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izlaznim operacij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 tu svrhu se koriste standardne bibli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to v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ži i za programski jezik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dardne biblioteke za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realizovane su u duhu OOP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klaracije bibliotek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laze u zaglavl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sani su pojmovi ulaznog i izlaznog to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ogički pojmovi koji se odnose na ulazi i izlaz niza znaka na uređaj ili datote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tek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drž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u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oja realizuje ulazni t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u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oja realizuje izlazni t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6339-04E2-463F-B929-4E1F3DD9E6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 navedenih klasa izveden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edn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ktu kla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že da se pridruži jedna datotek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uređa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 U/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bibliotec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sana su i dv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na statička objek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jek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j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 pridružen standardnom ulaznom uređaju (obično tasta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jek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oji je pridruže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nom izlaznom uređaju (obično ek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adrži po jednu operatorsku funkcij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 svaki ugrađeni tip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tream&amp; operator&gt;&gt;(istream &amp;is,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t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Gdje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Tip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označava neki ugrađeni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022E-200C-469B-A986-696DE8B6C3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adrži po jednu operatorsku funkci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svaki ugrađeni tip poda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stream&amp; operator&lt;&lt;(ostream &amp;os, T&amp; x)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dj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označava neki ugrađeni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jevi operand je tok, dok je desni se drug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iše ili čita u ili iz t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vraćaju reference na isti tok nad kojim je izvršena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I opera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u se vršiti višestruke 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I operaci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stiti za jednostavn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I oper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0C81-DD1F-4342-B55F-5D858D0707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Preklapanje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&gt;&gt;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&lt;&l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e je da korisnik predefiniše opera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svoj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šu se globalne operatorske funkcije koje su prijatelji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mogu biti metode klase jer prvi operand mora bit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vi operand je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rugi operand je objekat tipa klase za koju predefinišemo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željno je funkcije vraća referencu n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tj. n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ako bi omogućili pozivanje u niz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862C-F1BE-4006-A32B-27A4F540DD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Preklapanje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&gt;&gt;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&lt;&l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iend ostream&amp; operator&lt;&lt;(ostream&amp; os, Complex&amp; c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s &lt;&lt; "(Im=" &lt;&lt; c.re &lt;&lt; ",Re=" &lt;&lt; c.im &lt;&lt; ")"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mplex c(2.3, 1.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cout &lt;&lt; c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227640" y="5229360"/>
            <a:ext cx="2916360" cy="16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2F36-373C-475E-A8F9-E0E768DD17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i razlika između pojmova inicijalizacije i dodj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nicijalizacija se vrši nad objektom u “fazi kreriranj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samo jed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še početno stanje objek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odjela se vrši nad postojećim objekt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se vršiti proizvoljan broj pu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ijenja postojeće stanje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objekat inicijalizuje objektom iste klase poziva se konstruktor, a ne operator d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nstruktor se poziva ča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ako je notacija za inicijalizaciju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imb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 je izraz sa desne stran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tog tipa kao i objekat koji se kreira, poziva se konstruktor kop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BCFC-AD19-4E8B-AB97-5275EBAEF1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ja dodjele v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i se u okviru naredbe dodjele (operator =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 dodjele se može preklopiti pisanj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ke funkcij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o ponašanje je kopiranje objekta član po č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 kopiranju članova klase pozivaju se operatori = za članov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je član klase pokazič izvršiće se tzv. plitko dodjeljivanje, tj. kopiranje pokazivača, ali ne i sadrž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ktično pravi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klasa ima konstruktor kopije, operator dodjelje ili destruktor, onda najvjerovatnije treba da ima sva t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F36E-586F-4494-BADD-D302A74EAF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amp; operator=(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iend bool operator==(Array&amp; arr1, Array&amp; arr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iend ostream&amp; operator&lt;&lt;(ostream &amp;os, 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::Array(int num): num(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onstr.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2D6B-4DEB-4915-9BCE-396D7E4360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jam preklapanja operator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add(Complex c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re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z.re = this-&gt;re + c1.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z.im = this-&gt;im + c1.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e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3 = c1.add(c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8D0A-56F8-4C04-B9AB-528FEA1C1E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::Array(Array&amp; arr): num(arr.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onstr. kop.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amp; Array::operator=(Array&amp; ar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Op. =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this == &amp;arr){return *this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 = arr.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*th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16C0-6D95-4472-B396-B3F8277428B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 operator==(Array&amp; arr1, Array&amp; ar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Op. ==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rr1.num != arr2.num) 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arr1.num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rr1[i] != arr2[i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stream&amp; operator&lt;&lt;(ostream &amp;os, Array&amp; a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arr.num; i++) cout &lt;&lt; arr[ i ] &lt;&lt; 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71C6-44F8-4DC3-BA06-BE3E69FC73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1[0] = 1; a1[1]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" &lt;&lt;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2 =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2=" &lt;&lt; a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2=" &lt;&lt; a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6760" y="3689280"/>
            <a:ext cx="302724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0FED-0343-4E1B-9E40-6305826B0E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(float x = 0.0, float y = 0.0) : x(x), y(y) {cout &lt;&lt; "Konstr. : Point" &lt;&lt; endl;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(Point&amp; p) : x(p.x), y(p.y) {cout &lt;&lt; "Konstr. kop : Point" &lt;&lt; endl;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&amp; operator=(Point &amp;p){cout &lt;&lt; "Point Op =" &lt;&lt; endl; x = p.x; y = p.y; return *this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 : p(x,y), r(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cout &lt;&lt; "Konstr : Circle" &lt;&lt; endl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ircle(Circle&amp; c) : p(c.p), r(c.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cout &lt;&lt; "Konstr kop. : Circle" &lt;&lt; endl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ircle c1(1.0,2.0,3.0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ircle c2 = c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2 = c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96000" y="5110200"/>
            <a:ext cx="3348000" cy="17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9404-696E-48E5-AE2C-7AACF95C418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verzija tipova može se vršiti putem konst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cout &lt;&lt; "Konstr " &lt;&lt; endl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Complex(){cout &lt;&lt; "Dest" &lt;&lt; end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iend ostream&amp; operator&lt;&lt;(ostream &amp;os, Complex&amp; 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s &lt;&lt; "(Im=" &lt;&lt; c.re &lt;&lt; ",Re=" &lt;&lt; c.im &lt;&lt; ")"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 c1(1.2, 2.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c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c1 = 5</a:t>
            </a:r>
            <a:r>
              <a:rPr b="0" lang="sr-Latn-CS" sz="1200" spc="-1" strike="noStrike">
                <a:solidFill>
                  <a:srgbClr val="ff3300"/>
                </a:solidFill>
                <a:latin typeface="Courier New"/>
              </a:rPr>
              <a:t>.0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c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11640" y="4586400"/>
            <a:ext cx="4032360" cy="22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09F9-A682-4743-B3E4-231C5C7B755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ugi način jeste definisanje operatorske funkcije za konverz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članica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oja ima obli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 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še konverziju iz tip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 ti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 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statička metoda, niti može da bude globalna prijateljs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ma argu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itanju je unarni oper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ip povratnog rezultata se ne navodi u deklar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 se na osnovu imen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D0B0-99E7-4B7A-801E-E77A25EBD6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 float(){return re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(1.2, 2.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 =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f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07280" y="5200560"/>
            <a:ext cx="273672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A4A2-8AB0-4C45-BE52-A5964A2CDD6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načenje operatora za korisnički tip definiše se putem operatorskih funkcij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maju posebna imena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neki operator ugrađen u jez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operator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ve funkcije preklapaju standardne operatore (+,-, , /, * i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sim eksplicitnog poziva preko imena mogu se pozivati koristeći notaciju koja se koristi za operatore nad ugrađenim tipov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raz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1@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 tumači ka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tor@(t1,t2)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// za operatorsku prijateljsku funkciju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t1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tor@(t2)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// za operatorsku metodu klas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6A27-9666-42FF-AB86-578DEA81CF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riend Complex operator+(Complex c1, Complex c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(Complex c1, Complex c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re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z.re = c1.re + c2.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z.im = c1.im + c2.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re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 = c1 + c2; //ekv. sa c3 = operator+(c1,c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3860640"/>
            <a:ext cx="3132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D116-3D5C-4504-96B5-ADDAE96D1D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mplex operator-(Complex c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mplex operator+(float f){return Complex(this-&gt;re + f, this-&gt;im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::operator-(Complex c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this-&gt;re - c1.re, this-&gt;im - c1.i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3 = c2 - c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//ekv. sa c3 = c2.operator-(c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3 = c3 + 1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88000" y="5423040"/>
            <a:ext cx="2556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690B-5DA0-4D64-99B2-B2A9C7F1F5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je moguć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mijeniti prioritet, asocijativnost i broj operanda operatora u odnosu na svojstva koja su ugrađena u jez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nije moguće definisati da prekolopljeni operator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ma veći prioritet u odnosu na preklopljeni operator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definisati operatore za ugrađene tip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nije dozvoljeno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 operator+(float, flo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diti nove operatore u jez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lopit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k svi ostali mog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i operatori imaju posebna ograničenja za preklapanje: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t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1D72-36FA-447E-9235-F1A7C8E43C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a članic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binarni opererator, tada operatorska funkcije ko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 funkcij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lanic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ba da se realizuje ka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@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vi operand mora biti objekat klase kojoj operatorska funkcija prip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i operator mora biti tipa argume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r. ako u klasi Complex postoji definisana operatroska  funkcij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operator+(float f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da prvi argument mora biti objekat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Drugi argument mora biti tip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lobalna funkcija (najčešće prijateljsk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binarni opererator, tada operatorska funkcije ko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lobal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ba da se realizuje ka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@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9B63-F0FD-4DFC-90A4-E9AAED6318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5T09:26:27Z</dcterms:modified>
  <cp:revision>865</cp:revision>
  <dc:subject/>
  <dc:title>Chapter 1 – Introduction to Computers and C++ Programming</dc:title>
</cp:coreProperties>
</file>